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93AB-C7A0-40B1-834B-772D8ADA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8D87-BE58-4D98-9E86-CD04B3B6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9F5D-9CE2-4DCE-B7FF-670861A5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993A-8A8D-4D9A-A4B3-B42245AC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5D9C-93DF-4DC4-A85D-4C1468D0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0AB4-8FD0-442A-B009-CFAFDBD6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1703-C8C9-49D6-A0A2-E6A364A3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6F4F-96DE-49B9-A772-90EBE2D6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7761-263B-46BC-8E66-7DE326F3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E3D1-B68F-4D88-805C-E6B6F498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493A-CD0B-4459-9EE3-448A1323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72FD-C8AB-45A0-83F9-7F741132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B765-6BD2-419E-AFB6-0B60920889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WATER AND SOIL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ZÁKLADNÍ ŠKOLA DUB NAD MORAVOU, CZECH REPUBL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UR NEIGHBOURH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UB NAD MORAVOU CHU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THE MORAVA R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Zástupný symbol pro obsah 11" descr="reka1.JPG"/>
          <p:cNvPicPr/>
          <p:nvPr/>
        </p:nvPicPr>
        <p:blipFill>
          <a:blip r:embed="rId1"/>
          <a:stretch/>
        </p:blipFill>
        <p:spPr>
          <a:xfrm>
            <a:off x="4452840" y="2637000"/>
            <a:ext cx="4421160" cy="3024000"/>
          </a:xfrm>
          <a:prstGeom prst="rect">
            <a:avLst/>
          </a:prstGeom>
          <a:ln w="0">
            <a:noFill/>
          </a:ln>
        </p:spPr>
      </p:pic>
      <p:pic>
        <p:nvPicPr>
          <p:cNvPr id="47" name="Zástupný symbol pro obsah 10" descr="800px-DubNM.jpg"/>
          <p:cNvPicPr/>
          <p:nvPr/>
        </p:nvPicPr>
        <p:blipFill>
          <a:blip r:embed="rId2"/>
          <a:stretch/>
        </p:blipFill>
        <p:spPr>
          <a:xfrm>
            <a:off x="203040" y="2637000"/>
            <a:ext cx="40910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Working on water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Zástupný symbol pro obsah 4" descr="dnyvody17.jpg"/>
          <p:cNvPicPr/>
          <p:nvPr/>
        </p:nvPicPr>
        <p:blipFill>
          <a:blip r:embed="rId1"/>
          <a:stretch/>
        </p:blipFill>
        <p:spPr>
          <a:xfrm>
            <a:off x="395280" y="2349360"/>
            <a:ext cx="3943440" cy="2955960"/>
          </a:xfrm>
          <a:prstGeom prst="rect">
            <a:avLst/>
          </a:prstGeom>
          <a:ln w="0">
            <a:noFill/>
          </a:ln>
        </p:spPr>
      </p:pic>
      <p:pic>
        <p:nvPicPr>
          <p:cNvPr id="50" name="Zástupný symbol pro obsah 5" descr="P1070345.JPG"/>
          <p:cNvPicPr/>
          <p:nvPr/>
        </p:nvPicPr>
        <p:blipFill>
          <a:blip r:embed="rId2"/>
          <a:stretch/>
        </p:blipFill>
        <p:spPr>
          <a:xfrm>
            <a:off x="4610160" y="2349360"/>
            <a:ext cx="43369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RESULTS OF BIOLOGICAL ANALYSIS OF WATER –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MICROSCOPIC FIN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YCLOPS STRENU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Zástupný symbol pro obsah 6" descr="P1060962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HILOD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Zástupný symbol pro obsah 7" descr="P1060900.JPG"/>
          <p:cNvPicPr/>
          <p:nvPr/>
        </p:nvPicPr>
        <p:blipFill>
          <a:blip r:embed="rId2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ESULTS OF BIOLOGICAL ANALYSIS OF WATER – MICROSCOPIC FIN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INE POLLEN GR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Zástupný symbol pro obsah 6" descr="pyl - borovice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YANOBACTERIAE AND ALG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Zástupný symbol pro obsah 7" descr="P1060330.JPG"/>
          <p:cNvPicPr/>
          <p:nvPr/>
        </p:nvPicPr>
        <p:blipFill>
          <a:blip r:embed="rId2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RESULTS OF BIOLOGICAL ANALYSIS OF WATER –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MICROSCOPIC FIN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STRACOD CAND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Zástupný symbol pro obsah 6" descr="P1060977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ECOMPOSING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Zástupný symbol pro obsah 7" descr="P1060349.JPG"/>
          <p:cNvPicPr/>
          <p:nvPr/>
        </p:nvPicPr>
        <p:blipFill>
          <a:blip r:embed="rId2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50560" y="18864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FOR CHEMICAL ANALYSIS OF TWO COLLECTED WATER SAMPLES A COMPACT LABORATORY KI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FOR WATER TESTING FROM MERCK COMPANY WAS USED. STUDENTS USED THIS KIT ALSO FOR DEFINING SOIL PH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47640" y="2276640"/>
          <a:ext cx="6072480" cy="3157200"/>
        </p:xfrm>
        <a:graphic>
          <a:graphicData uri="http://schemas.openxmlformats.org/drawingml/2006/table">
            <a:tbl>
              <a:tblPr/>
              <a:tblGrid>
                <a:gridCol w="1440000"/>
                <a:gridCol w="2162160"/>
                <a:gridCol w="2470320"/>
              </a:tblGrid>
              <a:tr h="2455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PARAM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THE MORAVA RI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THE GARDEN LA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1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ightly yel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ightly 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RBID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ightly 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rbid, mud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1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OR - CO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arly any o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ightly fish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5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OR - WA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arthy o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hy, gras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25 - neutral up to slightly aci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0 - neut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5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MON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  mg/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 03 mg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1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TR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mg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g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TRI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5 mg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 mg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1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SPH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 mg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 mg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RD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um 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um 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ESULTS OF SOIL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THE FIELD WHERE THE SAMP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WAS COLLEC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ROWN SO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Zástupný symbol pro obsah 10" descr="hnědozem.jpg"/>
          <p:cNvPicPr/>
          <p:nvPr/>
        </p:nvPicPr>
        <p:blipFill>
          <a:blip r:embed="rId1"/>
          <a:stretch/>
        </p:blipFill>
        <p:spPr>
          <a:xfrm>
            <a:off x="5724360" y="2362320"/>
            <a:ext cx="2303640" cy="3278160"/>
          </a:xfrm>
          <a:prstGeom prst="rect">
            <a:avLst/>
          </a:prstGeom>
          <a:ln w="0">
            <a:noFill/>
          </a:ln>
        </p:spPr>
      </p:pic>
      <p:pic>
        <p:nvPicPr>
          <p:cNvPr id="72" name="obrázek 1" descr=""/>
          <p:cNvPicPr/>
          <p:nvPr/>
        </p:nvPicPr>
        <p:blipFill>
          <a:blip r:embed="rId2"/>
          <a:stretch/>
        </p:blipFill>
        <p:spPr>
          <a:xfrm>
            <a:off x="250920" y="2476440"/>
            <a:ext cx="42400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SOIL TYPE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:  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brown soil, containing smalplant roots,  remains of soil microorganisms, residues leaves and twigs. Rarely it contains clay grains and parts of  eartworms.</a:t>
            </a:r>
            <a:br>
              <a:rPr sz="3600"/>
            </a:br>
            <a:r>
              <a:rPr b="1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SOIL STRUCTURE: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umpy and crumbly soil, without sand, medium heavy.</a:t>
            </a:r>
            <a:br>
              <a:rPr sz="3600"/>
            </a:br>
            <a:r>
              <a:rPr b="1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SOIL pH: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identified pH was 5,7 which means slightly acid soil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17:03:18Z</dcterms:created>
  <dc:creator>buchta</dc:creator>
  <dc:description/>
  <dc:language>en-US</dc:language>
  <cp:lastModifiedBy>buchta</cp:lastModifiedBy>
  <dcterms:modified xsi:type="dcterms:W3CDTF">2011-02-19T18:02:04Z</dcterms:modified>
  <cp:revision>6</cp:revision>
  <dc:subject/>
  <dc:title>WATER AND SOIL ANALYSIS</dc:title>
</cp:coreProperties>
</file>